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529A-BFCB-4219-A917-3CDB0B593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DB95-E7B0-4532-9350-EA2A9E08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02F4-A1E1-482E-91E7-EAF405752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1341-1680-46A7-856D-F526220CD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B851E-3D5E-43BE-A35B-483AC6FAE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970D9-1580-40F0-85BD-779853A9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DC33-7A00-4783-A6C5-F51887E6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7BA1B-6078-406B-B1B2-AC8C6A06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F2C2-D2B1-431B-902E-078218EC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50EB-0468-4453-86F7-BE62CCB3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B161-1700-4CDE-8CE0-8919D1EA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6911-6952-4FAF-A4F9-0DACC1D3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05E9-9EBC-4F5B-838F-A67CF2C4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138C-DC74-4C87-AB21-2A6C63D0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D5386-E12E-411D-ABE1-8FE2FF55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223D-225D-450C-A4B5-3F3A8E97D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89F3-0118-4D84-9D80-00E4A86DC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DC14-7A46-4CD4-8BC7-90C03ED8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76EF-9A25-47A5-9AA3-1CEA3CCE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5A1F-96FA-42BE-9D03-B2CD7F22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7BE6-EBB9-4F28-9372-06238858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8771-02EB-4880-8D99-78C26226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FB38-802D-4328-A55D-5ACC9EEA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4A95-3E9F-4D65-9A76-CE68E6C2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3B4B-1ACF-44AD-A1D2-9AA770CAF9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89FE-0378-49BE-868B-B8B0B12075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Quests: An Overview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ed by: Eddelyn D. Gupet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-Enhanced Learning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nstructional Design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lipinas School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ed from: Patricia B. Ari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ty of the Philippines – Open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WebQues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quiry-based activity developed by Bernie Dodge and Tom March in 1995 at the San Diego Sate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ers create knowledge products (e.g., report, poster, magazine) out of information found on the Web and in other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s higher order thinking skills: analysis, synthesis,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lements of a WebQues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: sets the stage/establishes the context (creative &amp; motiva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: a doable and interesting “mission” revolves around an open-eneded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: detailed, sequential steps that students must follow to accomplish the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: Web and other resources for students to use in order to be able to accomplish the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: explains to students how their work will be evalu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: closing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a WebQues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promotes cooperativ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ers work in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member has a role to play; roles complement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ers learn that no one knows every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a WebQues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promotes authentic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al-world problem must be solved creatively (no set answ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ers’ outputs have a real audience (the output is publish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a WebQues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promotes learning through guided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ask is broken down into sub-tasks (proc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are pro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tivity is linked to previous les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ers act as novices working with real expe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a WebQues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develops information literacy and higher order thinking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promotes reading and writing across the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promotes reflective learning through self-assessment (and peer evalu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02:37:36Z</dcterms:created>
  <dc:creator>Student's</dc:creator>
  <dc:description/>
  <dc:language>en-US</dc:language>
  <cp:lastModifiedBy>Student's</cp:lastModifiedBy>
  <dcterms:modified xsi:type="dcterms:W3CDTF">2011-01-06T02:43:10Z</dcterms:modified>
  <cp:revision>2</cp:revision>
  <dc:subject/>
  <dc:title>WebQuests: An Overview  Prepared by: Eddelyn D. Gupeteo</dc:title>
</cp:coreProperties>
</file>